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8F1-E124-43D9-A8D1-6D7A2CC4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82D-CD10-4EF3-995C-9EA00A6A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CB2-86AF-4083-A4D2-654813C5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E8A-CD29-4BC9-BF53-40766541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A96-B1CC-49F1-872D-604EDB36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1AC-7AE5-46CA-9754-F3C15846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98D-E84E-4ACB-8277-19980DF3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78C-32D7-43DE-9676-18DFB270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938-E980-4154-A47F-193A5349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C34-205D-4C1E-A32F-1CDAB4C8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9D3-B42F-49DE-8AD5-45F232E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93C-8873-43BE-BD9A-51DC09EE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F935-6794-473A-B5CD-110DFC9EBB38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2210040" cy="16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352680" y="762120"/>
            <a:ext cx="2895840" cy="2322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5410080" y="0"/>
            <a:ext cx="2266920" cy="16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49876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أبانا لستُ أدري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أبانا لستُ أدري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يف كان العمر يجر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أن أدركَ أنّك، أنت أب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6094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05740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نّي الآن ابنك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ترعاني بحبّك، فلن أخاف أبداً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تمسك يمين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281952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سبحــــك، وأهتف لـك للأبـــــد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ــا لــك، للأبـــد(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49876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أبانا لستُ أدري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أبانا لستُ أدري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يف كان العمر يجر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أن أدركَ أنّك، أنت أب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05740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نّي الآن ابنك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ترعاني بحبّك، فلن أخاف أبداً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تمسك يمين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281952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سبحــــك، وأهتف لـك للأبـــــد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ــا لــك، للأبـــد(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05:56Z</dcterms:created>
  <dc:creator>user</dc:creator>
  <dc:description/>
  <dc:language>en-US</dc:language>
  <cp:lastModifiedBy>user</cp:lastModifiedBy>
  <dcterms:modified xsi:type="dcterms:W3CDTF">2006-05-05T05:41:26Z</dcterms:modified>
  <cp:revision>7</cp:revision>
  <dc:subject/>
  <dc:title>Slide 1</dc:title>
</cp:coreProperties>
</file>